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2C172-2467-49CE-9E67-879A5B858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6BB0FA2-C558-4E4C-8412-922C940D3802}" type="slidenum">
              <a:rPr b="0" lang="en-US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fld id="{B416626A-4D68-4C7C-9AD3-34AB522EBB14}" type="slidenum">
              <a:rPr b="0" lang="en-US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431B576-F08A-48FC-8832-C623DB3581A1}" type="slidenum">
              <a:rPr b="0" lang="en-US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fld id="{D767E6E4-1EBB-4A58-803B-79680F61DD83}" type="slidenum">
              <a:rPr b="0" lang="en-US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271FE35-046A-4920-9DC4-A9738703FB58}" type="slidenum">
              <a:rPr b="0" lang="en-US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fld id="{1362FD41-E5E3-4C66-94BE-5F9B34A487F5}" type="slidenum">
              <a:rPr b="0" lang="en-US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9E41D63-1B9F-41F3-A6B5-4EA01C1843D5}" type="slidenum">
              <a:rPr b="0" lang="en-US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fld id="{07C0F66E-5749-44BB-9CCF-DA49D2CFE465}" type="slidenum">
              <a:rPr b="0" lang="en-US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063750E-B2E7-434E-9955-E9B5D4986F9F}" type="slidenum">
              <a:rPr b="0" lang="en-US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fld id="{13595011-6696-4D7E-B7C5-54486AAA2375}" type="slidenum">
              <a:rPr b="0" lang="en-US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CEF1179-CEE5-43E6-A348-3CF9DE615843}" type="slidenum">
              <a:rPr b="0" lang="en-US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fld id="{2722B67D-FCE5-4BF1-89F7-C263578ECA60}" type="slidenum">
              <a:rPr b="0" lang="en-US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EEC5D41-98BD-4766-9DC3-486122DB424C}" type="slidenum">
              <a:rPr b="0" lang="en-US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fld id="{2FE1E776-A5A2-4D93-A1EA-9BE18EDAD3FC}" type="slidenum">
              <a:rPr b="0" lang="en-US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15DCB72-E22A-4502-A4D8-ABFF0371F15C}" type="slidenum">
              <a:rPr b="0" lang="en-US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fld id="{40C78ECF-8FED-4332-A691-31C69A7230B7}" type="slidenum">
              <a:rPr b="0" lang="en-US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1DCCBFE-4B34-4E7F-A5D0-9251361BCAEA}" type="slidenum">
              <a:rPr b="0" lang="en-US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fld id="{4FD698D9-0385-4F99-9298-5221333C62EF}" type="slidenum">
              <a:rPr b="0" lang="en-US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7F7854A-ADCA-4919-AB22-9FC7F248FB97}" type="slidenum">
              <a:rPr b="0" lang="en-US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fld id="{E113AEFE-8EC8-4129-9414-B6FCF5D14407}" type="slidenum">
              <a:rPr b="0" lang="en-US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4FC4F0E-74B8-4D00-A153-0BD8146F5171}" type="slidenum">
              <a:rPr b="0" lang="en-US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fld id="{1F038327-30C9-4483-9635-8C55E88C667A}" type="slidenum">
              <a:rPr b="0" lang="en-US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C0679BC-5688-48C8-8C7F-F322B5119CDA}" type="slidenum">
              <a:rPr b="0" lang="en-US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fld id="{A5346ED5-F847-4144-A1C1-95DBE066DAA4}" type="slidenum">
              <a:rPr b="0" lang="en-US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95C43B9-B195-439D-B762-5F0F6C2B3703}" type="slidenum">
              <a:rPr b="0" lang="en-US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fld id="{07E7A9BB-0F27-48F5-9706-73D9FF742510}" type="slidenum">
              <a:rPr b="0" lang="en-US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BE7E709-69C4-4F70-ADF4-5569E29191FD}" type="slidenum">
              <a:rPr b="0" lang="en-US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fld id="{A9111AD4-8040-4B09-8A68-6756C4AE68DF}" type="slidenum">
              <a:rPr b="0" lang="en-US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5F06-586E-4E20-813E-7D1517DF1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F3F1-53DC-42BA-9B50-E902AE55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72C7-283D-400A-902E-07C1DBD18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AE71-6377-49B7-8962-52F03F9F0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4FE4-D3D4-4380-B710-94AB6BF5D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8CA0-5FCD-4741-A283-DC06F942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42D4-197E-4CC9-9D7C-53EEB7A8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4CF7-64D8-4EB9-975F-95B502A0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6435-05BF-48DB-A345-75882D62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857D-ECCD-4FCE-A4B0-AEDB10BB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CDC9-4B2B-413E-BFD1-88AB1466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1F9B-4E3E-4CA9-904A-9FF0E67B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ADDB-A23E-47FE-B66E-89D66181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9F2E-6FCA-42E6-967C-FC23681A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7A23-58E1-444D-B01F-9DF86CAE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6996-CBFF-4D38-A35A-B53D92323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1327-0ACA-46ED-81D9-2A17FB27E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F04C-09EB-476A-B8DA-0846D087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4CE4-0DD5-404B-A964-C0C486A0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785D-FE5F-410D-BB85-1B96B141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A30A-5F7C-4155-A8FB-153E8F54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264B-2AD2-4EE2-A023-B9F6B656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F3F4-66AE-41C6-8E82-5DA7184E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7E0E-6C20-4D57-B0C3-9769A35D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6480" y="5791320"/>
            <a:ext cx="3402000" cy="108108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5788080"/>
            <a:ext cx="3404880" cy="1084320"/>
          </a:xfrm>
          <a:prstGeom prst="line">
            <a:avLst/>
          </a:prstGeom>
          <a:ln w="12240">
            <a:solidFill>
              <a:srgbClr val="4a6f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4664160"/>
            <a:ext cx="9150480" cy="1440"/>
          </a:xfrm>
          <a:prstGeom prst="rtTriangle">
            <a:avLst/>
          </a:prstGeom>
          <a:gradFill rotWithShape="0">
            <a:gsLst>
              <a:gs pos="0">
                <a:srgbClr val="3d7241"/>
              </a:gs>
              <a:gs pos="100000">
                <a:srgbClr val="3d7241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080" bIns="-46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096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76a55"/>
                </a:solidFill>
                <a:latin typeface="Lucida Sans Unicode"/>
              </a:rPr>
              <a:t>Click to edit Master subtitle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-3240" y="4997520"/>
            <a:ext cx="9147240" cy="790560"/>
            <a:chOff x="-3240" y="4997520"/>
            <a:chExt cx="9147240" cy="790560"/>
          </a:xfrm>
        </p:grpSpPr>
        <p:sp>
          <p:nvSpPr>
            <p:cNvPr id="6" name=""/>
            <p:cNvSpPr/>
            <p:nvPr/>
          </p:nvSpPr>
          <p:spPr>
            <a:xfrm>
              <a:off x="-3240" y="4997520"/>
              <a:ext cx="9147240" cy="790560"/>
            </a:xfrm>
            <a:prstGeom prst="line">
              <a:avLst/>
            </a:prstGeom>
            <a:ln w="12240">
              <a:solidFill>
                <a:srgbClr val="4a6f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672588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8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2/7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49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36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0DE1F8B-708F-4C4A-93E7-32FE50F5F4CC}" type="slidenum"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fld id="{07E97A49-A969-4215-8603-6689A49C1851}" type="slidenum"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6480" y="5791320"/>
            <a:ext cx="3402000" cy="108108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9360" y="5788080"/>
            <a:ext cx="3404880" cy="1084320"/>
          </a:xfrm>
          <a:prstGeom prst="line">
            <a:avLst/>
          </a:prstGeom>
          <a:ln w="12240">
            <a:solidFill>
              <a:srgbClr val="4a6f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72588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8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2/7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49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36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3806670-5A79-419C-897D-967E42D03F8A}" type="slidenum"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fld id="{A4103F78-1245-4FA5-80E1-2F7F20783EE6}" type="slidenum"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doe.state.la.us/lde/uploads/2540.pdf" TargetMode="External"/><Relationship Id="rId2" Type="http://schemas.openxmlformats.org/officeDocument/2006/relationships/hyperlink" Target="http://www.doe.state.la.us/lde/uploads/2540.pdf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9680" y="1714680"/>
            <a:ext cx="8172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Lucida Sans Unicode"/>
              </a:rPr>
              <a:t> </a:t>
            </a:r>
            <a:r>
              <a:rPr b="1" lang="en-US" sz="4000" spc="-1" strike="noStrike">
                <a:solidFill>
                  <a:srgbClr val="676a55"/>
                </a:solidFill>
                <a:latin typeface="Lucida Sans Unicode"/>
              </a:rPr>
              <a:t>Water Vapour Conundrum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Karlynne Thie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5040" indent="-255600">
              <a:lnSpc>
                <a:spcPct val="101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ke a moment to decide which series you think has more water vapour and why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1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hare your answer with your table group and give at least one reas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sw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ries 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32000"/>
          </a:bodyPr>
          <a:p>
            <a:pPr marL="116640" indent="-81720">
              <a:lnSpc>
                <a:spcPct val="101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ke a moment to decide which series you think has more water vapour and wh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1664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16640" indent="-81720">
              <a:lnSpc>
                <a:spcPct val="101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hare your answer with your table group and give at least one reas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1664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16640" indent="0" algn="ctr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sw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16640" indent="0" algn="ctr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16640" indent="0" algn="ctr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ries B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76a55"/>
                </a:solidFill>
                <a:latin typeface="Lucida Sans Unicode"/>
              </a:rPr>
              <a:t>Which do you think has</a:t>
            </a:r>
            <a:br>
              <a:rPr sz="2800"/>
            </a:br>
            <a:r>
              <a:rPr b="1" lang="en-US" sz="2800" spc="-1" strike="noStrike">
                <a:solidFill>
                  <a:srgbClr val="676a55"/>
                </a:solidFill>
                <a:latin typeface="Lucida Sans Unicode"/>
              </a:rPr>
              <a:t>more water vapour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57120" y="2692440"/>
            <a:ext cx="4000680" cy="2879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500800" y="642960"/>
            <a:ext cx="3300480" cy="41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28760" y="1000080"/>
            <a:ext cx="822960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5040" indent="-255600">
              <a:lnSpc>
                <a:spcPct val="101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armer air contains more energ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1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nergy is required for water to change states from liquid to g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1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refore, warmer air has the potential to contain more water vapou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1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re may be more water available in the cooler climates but because it is cooler there is less heat energ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1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ess energy means less conversion of water to water vap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5712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18000"/>
          </a:bodyPr>
          <a:p>
            <a:pPr marL="65520" indent="-45720">
              <a:lnSpc>
                <a:spcPct val="101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armer air contains more energy.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52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520" indent="-45720">
              <a:lnSpc>
                <a:spcPct val="101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nergy is required for water to change states from liquid to gas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52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520" indent="-45720">
              <a:lnSpc>
                <a:spcPct val="101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refore, warmer air has the potential to contain more water vapour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52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520" indent="-45720">
              <a:lnSpc>
                <a:spcPct val="101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re may be more water available in the cooler climates but because it is cooler there is less heat energy availabl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52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520" indent="-45720">
              <a:lnSpc>
                <a:spcPct val="101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ess energy means less conversion of water to water vapou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"/>
          <p:cNvSpPr/>
          <p:nvPr/>
        </p:nvSpPr>
        <p:spPr>
          <a:xfrm>
            <a:off x="-128160" y="121428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72a3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1680" y="214200"/>
            <a:ext cx="8135640" cy="63579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5040" indent="-255600">
              <a:lnSpc>
                <a:spcPct val="101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Lucida Sans Unicode"/>
                <a:hlinkClick r:id="rId1"/>
              </a:rPr>
              <a:t>http://www.doe.state.la.us/lde/uploads/2540.pd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1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5000"/>
          </a:bodyPr>
          <a:p>
            <a:pPr marL="273600" indent="-191520">
              <a:lnSpc>
                <a:spcPct val="101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Lucida Sans Unicode"/>
                <a:hlinkClick r:id="rId2"/>
              </a:rPr>
              <a:t>http://www.doe.state.la.us/lde/uploads/2540.pdf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360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3600" indent="-191520">
              <a:lnSpc>
                <a:spcPct val="101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a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42960" y="2858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5040" indent="-255600" algn="ctr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1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Water vapour is evaporated water in a gaseous stat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5000"/>
          </a:bodyPr>
          <a:p>
            <a:pPr marL="200520" indent="0" algn="ctr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00520" indent="0" algn="ctr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00520" indent="-140400" algn="ctr">
              <a:lnSpc>
                <a:spcPct val="101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Water vapour is evaporated water in a gaseous state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lease look carefully at the following two series of photos, series A and B, there are 3 pictures in each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ich of the two series do you think represent places in the world with more water vapour in the ai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1000"/>
          </a:bodyPr>
          <a:p>
            <a:pPr marL="20916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lease look carefully at the following two series of photos, series A and B, there are 3 pictures in each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0916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ich of the two series do you think represent places in the world with more water vapour in the ai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Series A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Series A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Series A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100" spc="-1" strike="noStrike">
                <a:solidFill>
                  <a:srgbClr val="f2f2f2"/>
                </a:solidFill>
                <a:latin typeface="Lucida Sans Unicode"/>
              </a:rPr>
              <a:t>Series B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100" spc="-1" strike="noStrike">
                <a:solidFill>
                  <a:srgbClr val="f2f2f2"/>
                </a:solidFill>
                <a:latin typeface="Lucida Sans Unicode"/>
              </a:rPr>
              <a:t>Series B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936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100" spc="-1" strike="noStrike">
                <a:solidFill>
                  <a:srgbClr val="f2f2f2"/>
                </a:solidFill>
                <a:latin typeface="Lucida Sans Unicode"/>
              </a:rPr>
              <a:t>Series B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